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30AA-DF25-43A5-93BF-2B9FE7391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5144-29B3-4F82-B02A-81C171BC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42D7-725F-4650-82CF-98B24A9B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6FFB-D41E-4CB8-85D7-83643F103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18F4-2C80-4679-8CC4-425A57CF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7DBA-36F2-45E9-B877-254DBC48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512B-7BDD-4EDC-9024-A522E970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68FD-12D4-4423-B4CD-081005DA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9A81-7CC4-41C0-ABE7-94026848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D720-7F65-40E0-A00E-F95D1E69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B1AA-2078-4B40-9744-A34B6586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555C-BE24-4C4B-AC58-4F855E3D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6AA0-EA57-4543-A336-EFE0030B5B56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F:/IWONA%20DOC/matura/rozmowy1.pdf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F:/IWONA%20DOC/matura/materia&#322;%20stymuluj&#261;cy1.pdf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RUKTURA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GZMINU MATURALNEGO USTNEG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 JĘZYKA ANGIELSKIEGO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OD 2012 RO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 rot="1090800">
            <a:off x="8316720" y="0"/>
            <a:ext cx="6346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ev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 : Iwona Dróżdż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I. Sprawność komunikacyj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dający powinien nie tylko odnieść się do wszystkich wskazanych elementów zadania, ale również rozwinąć swoją wypowiedź dotyczącą każdego elemen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nkty przyznaje się zgodnie z Tabelą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 rot="1090800">
            <a:off x="8316720" y="0"/>
            <a:ext cx="6346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ev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 : Iwona Dróżdż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Tabela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 rot="1090800">
            <a:off x="8316720" y="0"/>
            <a:ext cx="6346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ev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3178080"/>
                <a:gridCol w="1081080"/>
                <a:gridCol w="1079640"/>
                <a:gridCol w="1008000"/>
                <a:gridCol w="936720"/>
                <a:gridCol w="946080"/>
              </a:tblGrid>
              <a:tr h="628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ilu elementów zdający się odniósł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e elementów rozwinął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p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 : Iwona Dróżdż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I. Sprawność komunikacyj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 sprawność komunikacyjn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cenianą dla każdego zadania osob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skali od 0 do 6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ożna uzyskać 18 punkt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 rot="1090800">
            <a:off x="8316720" y="0"/>
            <a:ext cx="6346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ev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 : Iwona Dróżdż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I. Sprawność komunikacyj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żna stracić do 2 punktów z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26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adekwatność wypowiedzi do tematu i kontekstu rozmowy / zadanego pytan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26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ieczność korzystania z pomocy egzaminując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 rot="1090800">
            <a:off x="8316720" y="0"/>
            <a:ext cx="6346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ev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 : Iwona Dróżdż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II. Zakres struktur </a:t>
            </a:r>
            <a:br>
              <a:rPr sz="3200"/>
            </a:b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    leksykalno-gramatyczny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ograniczanie się do wyrażeń najbardziej pospolitych (typu „nice”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znaje się od 0 do 4 punkt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st oceniany w całej wypowiedzi zdające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 rot="1090800">
            <a:off x="8316720" y="0"/>
            <a:ext cx="6346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ev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 : Iwona Dróżdż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III. Poprawnoś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ocenie zakresu i poprawności bierze się p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wagę zróżnicowanie i poprawność użyt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ktur leksykalno-gramatycznych oraz wpły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wentualnych błędów językowych na komunikację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yznaje się o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nktó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niana w całej wypowiedzi zdające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 rot="1090800">
            <a:off x="8316720" y="0"/>
            <a:ext cx="6346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ev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 : Iwona Dróżdż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IV. Wymo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yznaje się o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nkt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st  oceniana w całej wypowiedzi zdające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 rot="1090800">
            <a:off x="8316720" y="0"/>
            <a:ext cx="6346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ev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 : Iwona Dróżdż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V. Płynność wypowied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yznaje się o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nkt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st oceniana w całej wypowiedzi zdające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ocenie wymowy i płynności wypowiedzi bier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ę pod uwagę poprawność wymowy w zakre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edynczych dźwięków i/lub akcentowania or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ólną płynność językową wypowiedz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1090800">
            <a:off x="8316720" y="0"/>
            <a:ext cx="6346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ev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 : Iwona Dróżdż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UWAG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na umiejętności językowych dokonywana j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la całej wypowiedzi zdająceg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cząwszy 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zmowy wstępn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 rot="1090800">
            <a:off x="8316720" y="0"/>
            <a:ext cx="6346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ev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 : Iwona Dróżdż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UWAG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dający którzy nie przystąpili do realiza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szystkich zadań, mogą za zakres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rawność struktur leksykalno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matycznych oraz wymowę i płynnoś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powiedzi otrzymać maksymalną liczb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nktów określoną w poniższej tabe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 rot="1090800">
            <a:off x="8316720" y="0"/>
            <a:ext cx="6346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ev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 : Iwona Dróżdż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gzamin będzie trwał piętnaście minu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 nie przewiduje się dodatkowego czasu dla zdającego na przygotowanie się do odpowiedzi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turzyści będą wchodzić do sali pojedynczo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 rot="1090800">
            <a:off x="8316720" y="0"/>
            <a:ext cx="6346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ev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 : Iwona Dróżdż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Realizacja wszystkich zadań (kolej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 rot="1090800">
            <a:off x="8316720" y="0"/>
            <a:ext cx="6346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ev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1600200"/>
          <a:ext cx="8229600" cy="40845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16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zadań do których przystąpił zdają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kres strukt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rawnoś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mow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łynność wypowiedz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zad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s. 2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s. 2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s. 2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s. 2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zadan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s. 1 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s. 1 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s. 1 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s. 1 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 : Iwona Dróżdż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32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całą wypowiedź ustną uczeń może uzyska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symalnie 30 punkt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 rot="1090800">
            <a:off x="8316720" y="0"/>
            <a:ext cx="6346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ev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 : Iwona Dróżdż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BIBLIOGRAF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Informator o egzaminie maturalnym z języka obcego nowożytneg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Centralna Komisja Egzaminacyj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wa Era 2011, Ewa Komorow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Matura z języka angielskiego – zbiór zadań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adosław   Swi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 rot="1090800">
            <a:off x="8316720" y="0"/>
            <a:ext cx="6346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ev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 : Iwona Dróżdż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gzamin maturalny ustny będzie składał się z czterech częśc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 rot="1090800">
            <a:off x="8316720" y="0"/>
            <a:ext cx="6346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ev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 : Iwona Dróżdż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Rozmowa wstępna </a:t>
            </a:r>
            <a:r>
              <a:rPr b="1" i="1" lang="en-US" sz="3200" spc="-1" strike="noStrike">
                <a:solidFill>
                  <a:srgbClr val="cc99ff"/>
                </a:solidFill>
                <a:latin typeface="Arial"/>
              </a:rPr>
              <a:t>(~2 min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czeń odpowiada na kilka pytań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wiązanych z 15 tematami maturalnymi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a pytań do wyboru znajduje się wyłącznie w zestawie egzaminatora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zmowa wstępna nie jest oceni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 rot="1090800">
            <a:off x="8316720" y="0"/>
            <a:ext cx="6346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ev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333360"/>
            <a:ext cx="1727280" cy="1366920"/>
          </a:xfrm>
          <a:prstGeom prst="sun">
            <a:avLst>
              <a:gd name="adj" fmla="val 25000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 : Iwona Dróżdż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Zadanie 1 </a:t>
            </a:r>
            <a:br>
              <a:rPr sz="3200"/>
            </a:b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 Odgrywanie ról </a:t>
            </a:r>
            <a:r>
              <a:rPr b="1" i="1" lang="en-US" sz="3200" spc="-1" strike="noStrike">
                <a:solidFill>
                  <a:srgbClr val="cc99ff"/>
                </a:solidFill>
                <a:latin typeface="Arial"/>
              </a:rPr>
              <a:t>(~3 min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dający ma około 30 sekund na zapoznanie się z poleceni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dający i egzaminator odgrywają wskazane w poleceniu ro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dający musi odnieść się do 4 elementów wskazanych w poleceniu i rozwinąć wypowied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niana jest również umiejętność reagowania zdającego na wypowiedzi egzaminujące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 rot="1090800">
            <a:off x="8316720" y="0"/>
            <a:ext cx="6346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ev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260280"/>
            <a:ext cx="1727280" cy="1366920"/>
          </a:xfrm>
          <a:prstGeom prst="sun">
            <a:avLst>
              <a:gd name="adj" fmla="val 25000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EXAMPLE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 : Iwona Dróżdż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Zadanie 2 </a:t>
            </a:r>
            <a:br>
              <a:rPr sz="3200"/>
            </a:b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 Opis obrazka </a:t>
            </a:r>
            <a:r>
              <a:rPr b="1" i="1" lang="en-US" sz="3200" spc="-1" strike="noStrike">
                <a:solidFill>
                  <a:srgbClr val="cc99ff"/>
                </a:solidFill>
                <a:latin typeface="Arial"/>
              </a:rPr>
              <a:t>(~4 min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dający opisuje ilustrację zamieszczoną w wylosowanym zestawi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opisie powinien określić miejsce, osoby oraz wykonywane przez nie czynnośc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powiada na 3 pytan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rzecie = relacjonowani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 rot="1090800">
            <a:off x="8316720" y="0"/>
            <a:ext cx="6346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ev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33360"/>
            <a:ext cx="1727280" cy="1366920"/>
          </a:xfrm>
          <a:prstGeom prst="sun">
            <a:avLst>
              <a:gd name="adj" fmla="val 25000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 : Iwona Dróżdż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Zadanie 3 </a:t>
            </a:r>
            <a:br>
              <a:rPr sz="3200"/>
            </a:b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        Wypowiedź na podstawie materiału   stymulującego </a:t>
            </a:r>
            <a:r>
              <a:rPr b="1" i="1" lang="en-US" sz="3200" spc="-1" strike="noStrike">
                <a:solidFill>
                  <a:srgbClr val="cc99ff"/>
                </a:solidFill>
                <a:latin typeface="Arial"/>
              </a:rPr>
              <a:t>(~5 min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dający ma ok. 1 min. na zapoznanie się z materiałem stymulujący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biera element najlepiej spełniający warunki zadania i uzasadnia  wybó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jaśnia, dlaczego odrzuca pozostał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powiada na 2 pyta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 rot="1090800">
            <a:off x="8316720" y="0"/>
            <a:ext cx="6346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ev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260280"/>
            <a:ext cx="1727280" cy="1366920"/>
          </a:xfrm>
          <a:prstGeom prst="sun">
            <a:avLst>
              <a:gd name="adj" fmla="val 25000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EXAMPLE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 : Iwona Dróżdż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ryteria oceni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 rot="1090800">
            <a:off x="8316720" y="0"/>
            <a:ext cx="6346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ev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 : Iwona Dróżdż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I. Sprawność komunikacyj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ztery elementy w każdym zadani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(Tabela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 zadaniu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ówienie czterech elementów podanych w poleceni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 zadaniu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is ilustracji i odpowiedzi na 3 pyt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 zadaniu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bór elementu najlepiej spełniającego warunki wskazane w poleceniu i uzasadnienie wyboru, wyjaśnienie powodów odrzucenia pozostałych elementów oraz odpowiedzi na 2 pytan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 rot="1090800">
            <a:off x="8316720" y="0"/>
            <a:ext cx="6346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ev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 : Iwona Dróżdż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1:52:34Z</dcterms:created>
  <dc:creator>Darek</dc:creator>
  <dc:description/>
  <dc:language>en-US</dc:language>
  <cp:lastModifiedBy>Iwona</cp:lastModifiedBy>
  <dcterms:modified xsi:type="dcterms:W3CDTF">2011-11-20T11:14:07Z</dcterms:modified>
  <cp:revision>5</cp:revision>
  <dc:subject/>
  <dc:title>STRUKTURA  EGZMINU MATURALNEGO USTNEGO  Z JĘZYKA ANGIELSKIEGO  OD 2012 ROKU</dc:title>
</cp:coreProperties>
</file>