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65577-692F-4772-A75C-784B29121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265E9-7BB1-4F29-856A-8524F9150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68052-FBAB-4357-AC90-8518A5057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71B12-F467-45A2-B369-6A8CA5A0B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C3FDA-3B08-4982-8561-A6F268697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788EA-ECC0-4F8C-A3AC-25FE5904E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B6C50-DD9C-4B0C-A3ED-44C9A649A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89B1F-664A-404E-9A05-79C81D26C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9C8E8-6C36-49AD-B8D7-8B17B107D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F623E-E352-486B-9831-3777FBA4F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A6ADC-8CFF-4E90-AE5D-C29713A5E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50051-4FE4-4B79-8EF9-07B2627CE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FCE13-8A8B-4B04-A2CC-7D3BA2633758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F:/IWONA%20DOC/matura/rozmowy1.pdf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F:/IWONA%20DOC/matura/materia&#322;%20stymuluj&#261;cy1.pdf" TargetMode="External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1484280"/>
            <a:ext cx="82296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TRUKTURA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GZMINU MATURALNEGO USTNEGO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Z JĘZYKA ANGIELSKIEGO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OD 2012 ROK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 rot="1090800">
            <a:off x="8316720" y="0"/>
            <a:ext cx="634680" cy="63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3783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Book Antiqua"/>
              </a:rPr>
              <a:t>eve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80008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Book Antiqua"/>
              <a:ea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 : Iwona Dróżdż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99ff"/>
                </a:solidFill>
                <a:latin typeface="Arial"/>
              </a:rPr>
              <a:t>I. Sprawność komunikacyj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dający powinien nie tylko odnieść się do wszystkich wskazanych elementów zadania, ale również rozwinąć swoją wypowiedź dotyczącą każdego element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nkty przyznaje się zgodnie z Tabelą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 rot="1090800">
            <a:off x="8316720" y="0"/>
            <a:ext cx="634680" cy="63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3783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Book Antiqua"/>
              </a:rPr>
              <a:t>eve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80008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Book Antiqua"/>
              <a:ea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 : Iwona Dróżdż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99ff"/>
                </a:solidFill>
                <a:latin typeface="Arial"/>
              </a:rPr>
              <a:t>Tabela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 rot="1090800">
            <a:off x="8316720" y="0"/>
            <a:ext cx="634680" cy="63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3783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Book Antiqua"/>
              </a:rPr>
              <a:t>eve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80008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Book Antiqua"/>
              <a:ea typeface="Book Antiqua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3178080"/>
                <a:gridCol w="1081080"/>
                <a:gridCol w="1079640"/>
                <a:gridCol w="1008000"/>
                <a:gridCol w="936720"/>
                <a:gridCol w="946080"/>
              </a:tblGrid>
              <a:tr h="6282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 ilu elementów zdający się odniósł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le elementów rozwinął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56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8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p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7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8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9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7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 : Iwona Dróżdż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99ff"/>
                </a:solidFill>
                <a:latin typeface="Arial"/>
              </a:rPr>
              <a:t>I. Sprawność komunikacyj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Za sprawność komunikacyjną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ocenianą dla każdego zadania osob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w skali od 0 do 6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można uzyskać 18 punktó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 rot="1090800">
            <a:off x="8316720" y="0"/>
            <a:ext cx="634680" cy="63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3783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Book Antiqua"/>
              </a:rPr>
              <a:t>eve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80008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Book Antiqua"/>
              <a:ea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 : Iwona Dróżdż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99ff"/>
                </a:solidFill>
                <a:latin typeface="Arial"/>
              </a:rPr>
              <a:t>I. Sprawność komunikacyj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żna stracić do 2 punktów z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126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eadekwatność wypowiedzi do tematu i kontekstu rozmowy / zadanego pytani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126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onieczność korzystania z pomocy egzaminujące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 rot="1090800">
            <a:off x="8316720" y="0"/>
            <a:ext cx="634680" cy="63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3783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Book Antiqua"/>
              </a:rPr>
              <a:t>eve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80008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Book Antiqua"/>
              <a:ea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 : Iwona Dróżdż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99ff"/>
                </a:solidFill>
                <a:latin typeface="Arial"/>
              </a:rPr>
              <a:t>II. Zakres struktur </a:t>
            </a:r>
            <a:br>
              <a:rPr sz="3200"/>
            </a:br>
            <a:r>
              <a:rPr b="1" lang="en-US" sz="3200" spc="-1" strike="noStrike">
                <a:solidFill>
                  <a:srgbClr val="cc99ff"/>
                </a:solidFill>
                <a:latin typeface="Arial"/>
              </a:rPr>
              <a:t>    leksykalno-gramatyczny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Nieograniczanie się do wyrażeń najbardziej pospolitych (typu „nice”)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rzyznaje się od 0 do 4 punktó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Jest oceniany w całej wypowiedzi zdająceg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 rot="1090800">
            <a:off x="8316720" y="0"/>
            <a:ext cx="634680" cy="63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3783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Book Antiqua"/>
              </a:rPr>
              <a:t>eve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80008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Book Antiqua"/>
              <a:ea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 : Iwona Dróżdż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99ff"/>
                </a:solidFill>
                <a:latin typeface="Arial"/>
              </a:rPr>
              <a:t>III. Poprawnoś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 ocenie zakresu i poprawności bierze się p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wagę zróżnicowanie i poprawność użyty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uktur leksykalno-gramatycznych oraz wpły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wentualnych błędów językowych na komunikację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zyznaje się o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nktów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eniana w całej wypowiedzi zdająceg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 rot="1090800">
            <a:off x="8316720" y="0"/>
            <a:ext cx="634680" cy="63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3783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Book Antiqua"/>
              </a:rPr>
              <a:t>eve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80008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Book Antiqua"/>
              <a:ea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 : Iwona Dróżdż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99ff"/>
                </a:solidFill>
                <a:latin typeface="Arial"/>
              </a:rPr>
              <a:t>IV. Wymow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zyznaje się o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nktó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est  oceniana w całej wypowiedzi zdająceg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 rot="1090800">
            <a:off x="8316720" y="0"/>
            <a:ext cx="634680" cy="63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3783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Book Antiqua"/>
              </a:rPr>
              <a:t>eve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80008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Book Antiqua"/>
              <a:ea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 : Iwona Dróżdż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99ff"/>
                </a:solidFill>
                <a:latin typeface="Arial"/>
              </a:rPr>
              <a:t>V. Płynność wypowiedz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zyznaje się o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nktó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est oceniana w całej wypowiedzi zdająceg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 ocenie wymowy i płynności wypowiedzi bier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ę pod uwagę poprawność wymowy w zakres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jedynczych dźwięków i/lub akcentowania ora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gólną płynność językową wypowiedz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 rot="1090800">
            <a:off x="8316720" y="0"/>
            <a:ext cx="634680" cy="63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3783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Book Antiqua"/>
              </a:rPr>
              <a:t>eve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80008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Book Antiqua"/>
              <a:ea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 : Iwona Dróżdż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99ff"/>
                </a:solidFill>
                <a:latin typeface="Arial"/>
              </a:rPr>
              <a:t>UWAGA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ena umiejętności językowych dokonywana j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la całej wypowiedzi zdającego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cząwszy o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zmowy wstępnej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 rot="1090800">
            <a:off x="8316720" y="0"/>
            <a:ext cx="634680" cy="63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3783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Book Antiqua"/>
              </a:rPr>
              <a:t>eve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80008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Book Antiqua"/>
              <a:ea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 : Iwona Dróżdż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99ff"/>
                </a:solidFill>
                <a:latin typeface="Arial"/>
              </a:rPr>
              <a:t>UWAGA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dający którzy nie przystąpili do realizacj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szystkich zadań, mogą za zakres 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prawność struktur leksykalno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matycznych oraz wymowę i płynność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ypowiedzi otrzymać maksymalną liczbę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nktów określoną w poniższej tabel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 rot="1090800">
            <a:off x="8316720" y="0"/>
            <a:ext cx="634680" cy="63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3783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Book Antiqua"/>
              </a:rPr>
              <a:t>eve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80008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Book Antiqua"/>
              <a:ea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 : Iwona Dróżdż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268280"/>
            <a:ext cx="82296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gzamin będzie trwał piętnaście minut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i nie przewiduje się dodatkowego czasu dla zdającego na przygotowanie się do odpowiedzi.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turzyści będą wchodzić do sali pojedynczo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 rot="1090800">
            <a:off x="8316720" y="0"/>
            <a:ext cx="634680" cy="63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3783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Book Antiqua"/>
              </a:rPr>
              <a:t>eve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80008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Book Antiqua"/>
              <a:ea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 : Iwona Dróżdż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99ff"/>
                </a:solidFill>
                <a:latin typeface="Arial"/>
              </a:rPr>
              <a:t>Realizacja wszystkich zadań (kolejn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 rot="1090800">
            <a:off x="8316720" y="0"/>
            <a:ext cx="634680" cy="63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3783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Book Antiqua"/>
              </a:rPr>
              <a:t>eve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80008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Book Antiqua"/>
              <a:ea typeface="Book Antiqua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457200" y="1600200"/>
          <a:ext cx="8229600" cy="4084560"/>
        </p:xfrm>
        <a:graphic>
          <a:graphicData uri="http://schemas.openxmlformats.org/drawingml/2006/table">
            <a:tbl>
              <a:tblPr/>
              <a:tblGrid>
                <a:gridCol w="1646280"/>
                <a:gridCol w="1646280"/>
                <a:gridCol w="1644480"/>
                <a:gridCol w="1646280"/>
                <a:gridCol w="1646280"/>
              </a:tblGrid>
              <a:tr h="1168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czba zadań do których przystąpił zdając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akres struktu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prawność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ymow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łynność wypowiedz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0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zadan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ks. 2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ks. 2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ks. 2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ks. 2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1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zadani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ks. 1 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ks. 1 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ks. 1 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ks. 1 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 : Iwona Dróżdż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pl-PL" sz="3200" spc="-1" strike="noStrike">
              <a:solidFill>
                <a:srgbClr val="cc99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 całą wypowiedź ustną uczeń może uzyska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symalnie 30 punktó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 rot="1090800">
            <a:off x="8316720" y="0"/>
            <a:ext cx="634680" cy="63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3783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Book Antiqua"/>
              </a:rPr>
              <a:t>eve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80008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Book Antiqua"/>
              <a:ea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 : Iwona Dróżdż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99ff"/>
                </a:solidFill>
                <a:latin typeface="Arial"/>
              </a:rPr>
              <a:t>BIBLIOGRAF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Informator o egzaminie maturalnym z języka obcego nowożytnego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–Centralna Komisja Egzaminacyj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Nowa Era 2011, Ewa Komorows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Matura z języka angielskiego – zbiór zadań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Radosław   Swig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 rot="1090800">
            <a:off x="8316720" y="0"/>
            <a:ext cx="634680" cy="63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3783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Book Antiqua"/>
              </a:rPr>
              <a:t>eve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80008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Book Antiqua"/>
              <a:ea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 : Iwona Dróżdż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1484280"/>
            <a:ext cx="82296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gzamin maturalny ustny będzie składał się z czterech części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 rot="1090800">
            <a:off x="8316720" y="0"/>
            <a:ext cx="634680" cy="63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3783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Book Antiqua"/>
              </a:rPr>
              <a:t>eve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80008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Book Antiqua"/>
              <a:ea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 : Iwona Dróżdż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99ff"/>
                </a:solidFill>
                <a:latin typeface="Arial"/>
              </a:rPr>
              <a:t>Rozmowa wstępna </a:t>
            </a:r>
            <a:r>
              <a:rPr b="1" i="1" lang="en-US" sz="3200" spc="-1" strike="noStrike">
                <a:solidFill>
                  <a:srgbClr val="cc99ff"/>
                </a:solidFill>
                <a:latin typeface="Arial"/>
              </a:rPr>
              <a:t>(~2 min.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czeń odpowiada na kilka pytań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wiązanych z 15 tematami maturalnymi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a pytań do wyboru znajduje się wyłącznie w zestawie egzaminatora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zmowa wstępna nie jest ocenia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 rot="1090800">
            <a:off x="8316720" y="0"/>
            <a:ext cx="634680" cy="63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3783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Book Antiqua"/>
              </a:rPr>
              <a:t>eve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80008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Book Antiqua"/>
              <a:ea typeface="Book Antiqua"/>
            </a:endParaRPr>
          </a:p>
        </p:txBody>
      </p:sp>
      <p:sp>
        <p:nvSpPr>
          <p:cNvPr id="50" name=""/>
          <p:cNvSpPr/>
          <p:nvPr/>
        </p:nvSpPr>
        <p:spPr>
          <a:xfrm>
            <a:off x="108000" y="333360"/>
            <a:ext cx="1727280" cy="1366920"/>
          </a:xfrm>
          <a:prstGeom prst="sun">
            <a:avLst>
              <a:gd name="adj" fmla="val 25000"/>
            </a:avLst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 : Iwona Dróżdż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99ff"/>
                </a:solidFill>
                <a:latin typeface="Arial"/>
              </a:rPr>
              <a:t>Zadanie 1 </a:t>
            </a:r>
            <a:br>
              <a:rPr sz="3200"/>
            </a:br>
            <a:r>
              <a:rPr b="1" lang="en-US" sz="3200" spc="-1" strike="noStrike">
                <a:solidFill>
                  <a:srgbClr val="cc99ff"/>
                </a:solidFill>
                <a:latin typeface="Arial"/>
              </a:rPr>
              <a:t> Odgrywanie ról </a:t>
            </a:r>
            <a:r>
              <a:rPr b="1" i="1" lang="en-US" sz="3200" spc="-1" strike="noStrike">
                <a:solidFill>
                  <a:srgbClr val="cc99ff"/>
                </a:solidFill>
                <a:latin typeface="Arial"/>
              </a:rPr>
              <a:t>(~3 min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dający ma około 30 sekund na zapoznanie się z poleceniam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dający i egzaminator odgrywają wskazane w poleceniu ro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dający musi odnieść się do 4 elementów wskazanych w poleceniu i rozwinąć wypowied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eniana jest również umiejętność reagowania zdającego na wypowiedzi egzaminująceg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 rot="1090800">
            <a:off x="8316720" y="0"/>
            <a:ext cx="634680" cy="63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3783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Book Antiqua"/>
              </a:rPr>
              <a:t>eve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80008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Book Antiqua"/>
              <a:ea typeface="Book Antiqua"/>
            </a:endParaRPr>
          </a:p>
        </p:txBody>
      </p:sp>
      <p:sp>
        <p:nvSpPr>
          <p:cNvPr id="54" name=""/>
          <p:cNvSpPr/>
          <p:nvPr/>
        </p:nvSpPr>
        <p:spPr>
          <a:xfrm>
            <a:off x="108000" y="260280"/>
            <a:ext cx="1727280" cy="1366920"/>
          </a:xfrm>
          <a:prstGeom prst="sun">
            <a:avLst>
              <a:gd name="adj" fmla="val 25000"/>
            </a:avLst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5050"/>
                </a:solidFill>
                <a:uFillTx/>
                <a:latin typeface="Arial"/>
                <a:hlinkClick r:id="rId1"/>
              </a:rPr>
              <a:t>EXAMPLE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 : Iwona Dróżdż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99ff"/>
                </a:solidFill>
                <a:latin typeface="Arial"/>
              </a:rPr>
              <a:t>Zadanie 2 </a:t>
            </a:r>
            <a:br>
              <a:rPr sz="3200"/>
            </a:br>
            <a:r>
              <a:rPr b="1" lang="en-US" sz="3200" spc="-1" strike="noStrike">
                <a:solidFill>
                  <a:srgbClr val="cc99ff"/>
                </a:solidFill>
                <a:latin typeface="Arial"/>
              </a:rPr>
              <a:t> Opis obrazka </a:t>
            </a:r>
            <a:r>
              <a:rPr b="1" i="1" lang="en-US" sz="3200" spc="-1" strike="noStrike">
                <a:solidFill>
                  <a:srgbClr val="cc99ff"/>
                </a:solidFill>
                <a:latin typeface="Arial"/>
              </a:rPr>
              <a:t>(~4 min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dający opisuje ilustrację zamieszczoną w wylosowanym zestawi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 opisie powinien określić miejsce, osoby oraz wykonywane przez nie czynnośc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dpowiada na 3 pytani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rzecie = relacjonowani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 rot="1090800">
            <a:off x="8316720" y="0"/>
            <a:ext cx="634680" cy="63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3783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Book Antiqua"/>
              </a:rPr>
              <a:t>eve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80008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Book Antiqua"/>
              <a:ea typeface="Book Antiqua"/>
            </a:endParaRPr>
          </a:p>
        </p:txBody>
      </p:sp>
      <p:sp>
        <p:nvSpPr>
          <p:cNvPr id="58" name=""/>
          <p:cNvSpPr/>
          <p:nvPr/>
        </p:nvSpPr>
        <p:spPr>
          <a:xfrm>
            <a:off x="108000" y="333360"/>
            <a:ext cx="1727280" cy="1366920"/>
          </a:xfrm>
          <a:prstGeom prst="sun">
            <a:avLst>
              <a:gd name="adj" fmla="val 25000"/>
            </a:avLst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 : Iwona Dróżdż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99ff"/>
                </a:solidFill>
                <a:latin typeface="Arial"/>
              </a:rPr>
              <a:t>Zadanie 3 </a:t>
            </a:r>
            <a:br>
              <a:rPr sz="3200"/>
            </a:br>
            <a:r>
              <a:rPr b="1" lang="en-US" sz="3200" spc="-1" strike="noStrike">
                <a:solidFill>
                  <a:srgbClr val="cc99ff"/>
                </a:solidFill>
                <a:latin typeface="Arial"/>
              </a:rPr>
              <a:t>        Wypowiedź na podstawie materiału   stymulującego </a:t>
            </a:r>
            <a:r>
              <a:rPr b="1" i="1" lang="en-US" sz="3200" spc="-1" strike="noStrike">
                <a:solidFill>
                  <a:srgbClr val="cc99ff"/>
                </a:solidFill>
                <a:latin typeface="Arial"/>
              </a:rPr>
              <a:t>(~5 min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dający ma ok. 1 min. na zapoznanie się z materiałem stymulujący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ybiera element najlepiej spełniający warunki zadania i uzasadnia  wybó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yjaśnia, dlaczego odrzuca pozostał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dpowiada na 2 pytan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 rot="1090800">
            <a:off x="8316720" y="0"/>
            <a:ext cx="634680" cy="63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3783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Book Antiqua"/>
              </a:rPr>
              <a:t>eve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80008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Book Antiqua"/>
              <a:ea typeface="Book Antiqua"/>
            </a:endParaRPr>
          </a:p>
        </p:txBody>
      </p:sp>
      <p:sp>
        <p:nvSpPr>
          <p:cNvPr id="62" name=""/>
          <p:cNvSpPr/>
          <p:nvPr/>
        </p:nvSpPr>
        <p:spPr>
          <a:xfrm>
            <a:off x="179280" y="260280"/>
            <a:ext cx="1727280" cy="1366920"/>
          </a:xfrm>
          <a:prstGeom prst="sun">
            <a:avLst>
              <a:gd name="adj" fmla="val 25000"/>
            </a:avLst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5050"/>
                </a:solidFill>
                <a:uFillTx/>
                <a:latin typeface="Arial"/>
                <a:hlinkClick r:id="rId1"/>
              </a:rPr>
              <a:t>EXAMPLE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 : Iwona Dróżdż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Kryteria ocenian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 rot="1090800">
            <a:off x="8316720" y="0"/>
            <a:ext cx="634680" cy="63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3783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Book Antiqua"/>
              </a:rPr>
              <a:t>eve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80008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Book Antiqua"/>
              <a:ea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 : Iwona Dróżdż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99ff"/>
                </a:solidFill>
                <a:latin typeface="Arial"/>
              </a:rPr>
              <a:t>I. Sprawność komunikacyj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89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ztery elementy w każdym zadani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(Tabela 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8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89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w zadaniu 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mówienie czterech elementów podanych w poleceni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89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89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w zadaniu 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is ilustracji i odpowiedzi na 3 pytan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89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89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w zadaniu 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ybór elementu najlepiej spełniającego warunki wskazane w poleceniu i uzasadnienie wyboru, wyjaśnienie powodów odrzucenia pozostałych elementów oraz odpowiedzi na 2 pytani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8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 rot="1090800">
            <a:off x="8316720" y="0"/>
            <a:ext cx="634680" cy="63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3783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Book Antiqua"/>
              </a:rPr>
              <a:t>eve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80008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Book Antiqua"/>
              <a:ea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 : Iwona Dróżdż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11:52:34Z</dcterms:created>
  <dc:creator>Darek</dc:creator>
  <dc:description/>
  <dc:language>en-US</dc:language>
  <cp:lastModifiedBy>Iwona</cp:lastModifiedBy>
  <dcterms:modified xsi:type="dcterms:W3CDTF">2011-11-20T11:14:07Z</dcterms:modified>
  <cp:revision>5</cp:revision>
  <dc:subject/>
  <dc:title>STRUKTURA  EGZMINU MATURALNEGO USTNEGO  Z JĘZYKA ANGIELSKIEGO  OD 2012 ROKU</dc:title>
</cp:coreProperties>
</file>