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A7A-E5B3-4808-877E-B50FA275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942-08DC-4A4C-8FBD-E3F111F3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37E-A115-4DD1-8972-133AA788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606-E68F-4783-9D36-A2E6318E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3FB-1D23-473A-A9B4-93A7115D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535-ADE5-4DAC-B802-7CE250C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2CB-1ED6-4C94-9AD1-BFABB40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F4F0-D8E3-4A09-9E0A-E8A053CD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2A7-93D9-4BDA-9097-B9A1C51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4E5-6C75-4BAD-9292-4A1662A6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5A6-BA91-4B06-8F47-BD66051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875-7F40-40BB-9FFA-FF40C5D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A225-FA56-4545-8981-8BD0825E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376-7C32-45A6-9C4E-7EC1A18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1E47-9E5F-42F7-8463-CD065E00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DC7E-1416-4197-83AD-BF7F9A5E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E61D-FA1A-45F5-BE65-71EACF3D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EAB5-78AE-4362-B439-76A8D506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A72B-EA0B-4D84-BF9A-3D92585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585C-9F5C-457F-80D2-EEE30563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380B-41D1-4DCE-A311-F444F27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87C8-7D41-4F56-9A48-51B4A72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69F-0D6A-48DB-8CC7-30CBBB3E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FD3E-3F1E-4D95-BE4E-1CFC17C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94B4-4819-4BE9-A42C-3A3DA5A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FFD5-9633-4B99-943C-43E9DD5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08AA-ECB9-4F5D-9B27-0424D5E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62F6-9ABE-47B3-B192-53226A6E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FD4C-A81F-4059-92A2-221691CE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1A72-952B-4696-9CB5-8B96D146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37E7-8EA5-4263-A1C1-861E4849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555E-97FA-4A40-A934-815F7B37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4180-4FCF-429B-AAB5-C49B107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090-BA7A-4403-8F9A-8365C723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8A6F-3CC4-4692-863A-47F6659B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0934-2BE8-445F-9BD1-1DA88102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DAEA-694E-4951-B316-C51D0BCC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4615-1799-41EF-8B03-0A18BE3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B0D8-A5F4-4E6B-BA8F-957A12D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A96A-C299-4B42-9018-7BA8993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15EA-B646-4521-9997-A562D9F4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8C20-4C3A-40F3-B26E-16AD5E2C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BA60-4FBD-4B50-A31F-CD2348F6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B907-8ABA-42EE-BA60-3CCC9791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FC7-75E8-4F4C-A957-52E7404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F1DF-556A-4FDB-B185-C82B2D7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15AB-1926-44C0-AC8D-0B28AD5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2264-958E-43D8-9218-84627C3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4C34-9E0A-4DA4-957A-813C10B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5B14-36F1-473D-B175-68B9EEB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5E5A-80DD-4532-9D10-7C2A4510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39B9-66A8-4AAD-9481-9024795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11BD-08DD-4919-B5EA-262F501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F378-E27F-4A40-90A5-AE89AA5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5449-1CE0-470F-ADA8-B9C93CA2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545-1DB9-4D8E-8B42-04FBC0F9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2EA4-AD64-469F-A452-B42C6B4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A51F-235C-4209-9301-6F4A52C5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82D8-6676-4570-9CC9-E7FF45C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DBAA-7EDE-4C01-84FA-3BDFB3C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61BCC-3FD0-412A-9713-8A2B48D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70101-1EEC-4209-B6CC-CAD540B6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E418-9EC6-4E8A-8757-79B60C3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C3FE-3CF6-46D8-B57D-9DF60F6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2E14E-F049-4DDB-8836-42E43D0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8886-8170-4C3C-A8CC-9063CAE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F44-6D78-40CB-B514-06D1EDB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690D-6B9F-4636-9D7E-86187549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87C5-11DF-41ED-92E9-B8C8C780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7196-955B-4912-82AE-8762A234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6C64-D5E5-462C-8E12-22CE9A9F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CAC9-5BA5-47D1-8B3A-7CBA6F21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F150-2DFF-4041-B2B9-5C7CBF9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E011-87C0-4DF1-8E23-EB40AD3C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FAF7A-1768-4141-91AE-BDDB3DE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E545-8B67-4B3D-94BC-74146B9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5F41-192C-4765-8905-4BC0E3E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59E-D7A8-4109-86CF-4C0CC2EC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7AB9-B292-41DA-B156-B511BAA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5FC50-86F9-40CF-8DD1-FBD442F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03C3-51C6-48D4-9113-B13F8CC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C89F-5A16-4A3C-A7C6-89E84BE2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9354-6440-418A-BEC9-B94C026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A1B-24A0-4F7B-8EE9-8FDB170D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CCEA-429D-43BE-B37C-89281D367AF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rójkąt równoramienny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9DF9-35EE-4383-9E08-DE4AC9012E60}" type="slidenum">
              <a:rPr b="0" lang="pl-P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47DE-2C33-4D7B-BD9B-7532BD4C83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ójkąt prostokątny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rójkąt równoramienny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Łącznik prosty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Łącznik prosty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938-6A34-4478-BD38-954B5376C93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5942-449E-4B45-B6FF-4306BDD7BD2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390D-2AA7-4EA9-B02F-5C96EB13AC70}" type="slidenum"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43F1-6EB6-4602-A7AB-06201227003D}" type="slidenum"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6"/>
          <p:cNvSpPr txBox="1"/>
          <p:nvPr/>
        </p:nvSpPr>
        <p:spPr>
          <a:xfrm>
            <a:off x="1692360" y="1557360"/>
            <a:ext cx="5686200" cy="34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beiten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A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K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Picture 9" descr="11990092-szkic-lekarz-z-stetoskop-siedzi-przy-biurku-w-godzinach"/>
          <p:cNvPicPr/>
          <p:nvPr/>
        </p:nvPicPr>
        <p:blipFill>
          <a:blip r:embed="rId1"/>
          <a:stretch/>
        </p:blipFill>
        <p:spPr>
          <a:xfrm>
            <a:off x="5508720" y="2637000"/>
            <a:ext cx="3311280" cy="422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V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L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5" descr="ANd9GcRQKNqkmpE-9vcbP36nkPv8Iz_0h-20kA9av8UoxDTMJT3zyA5MS_UCgh7R"/>
          <p:cNvPicPr/>
          <p:nvPr/>
        </p:nvPicPr>
        <p:blipFill>
          <a:blip r:embed="rId1"/>
          <a:stretch/>
        </p:blipFill>
        <p:spPr>
          <a:xfrm>
            <a:off x="5364000" y="2349360"/>
            <a:ext cx="2900520" cy="352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916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 K……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K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pielegniarka"/>
          <p:cNvPicPr/>
          <p:nvPr/>
        </p:nvPicPr>
        <p:blipFill>
          <a:blip r:embed="rId1"/>
          <a:stretch/>
        </p:blipFill>
        <p:spPr>
          <a:xfrm>
            <a:off x="4859280" y="2395440"/>
            <a:ext cx="2600280" cy="4462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36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J…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Z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6" descr="pobrane"/>
          <p:cNvPicPr/>
          <p:nvPr/>
        </p:nvPicPr>
        <p:blipFill>
          <a:blip r:embed="rId1"/>
          <a:stretch/>
        </p:blipFill>
        <p:spPr>
          <a:xfrm>
            <a:off x="6156360" y="2637000"/>
            <a:ext cx="207972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F…… arbeitet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 im H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5" descr="fryzjer1"/>
          <p:cNvPicPr/>
          <p:nvPr/>
        </p:nvPicPr>
        <p:blipFill>
          <a:blip r:embed="rId1"/>
          <a:stretch/>
        </p:blipFill>
        <p:spPr>
          <a:xfrm>
            <a:off x="5435640" y="2924280"/>
            <a:ext cx="2644560" cy="358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B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5" descr="8uhbw9tnby7zkl0zg45e"/>
          <p:cNvPicPr/>
          <p:nvPr/>
        </p:nvPicPr>
        <p:blipFill>
          <a:blip r:embed="rId1"/>
          <a:stretch/>
        </p:blipFill>
        <p:spPr>
          <a:xfrm>
            <a:off x="5292720" y="2637000"/>
            <a:ext cx="2720880" cy="3181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68360" y="1268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M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 W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5" descr="kolorowanka-mechanik_999"/>
          <p:cNvPicPr/>
          <p:nvPr/>
        </p:nvPicPr>
        <p:blipFill>
          <a:blip r:embed="rId1"/>
          <a:stretch/>
        </p:blipFill>
        <p:spPr>
          <a:xfrm>
            <a:off x="5076720" y="2205000"/>
            <a:ext cx="327204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F….. arbei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Obraz 1" descr=""/>
          <p:cNvPicPr/>
          <p:nvPr/>
        </p:nvPicPr>
        <p:blipFill>
          <a:blip r:embed="rId1"/>
          <a:stretch/>
        </p:blipFill>
        <p:spPr>
          <a:xfrm>
            <a:off x="3995640" y="2708280"/>
            <a:ext cx="4343400" cy="31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A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F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5" descr="1339944441_401481232_1-Zdjecia--PRACOWNIK"/>
          <p:cNvPicPr/>
          <p:nvPr/>
        </p:nvPicPr>
        <p:blipFill>
          <a:blip r:embed="rId1"/>
          <a:stretch/>
        </p:blipFill>
        <p:spPr>
          <a:xfrm>
            <a:off x="5724360" y="2852640"/>
            <a:ext cx="2471760" cy="3889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 H……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zu H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5" descr="Zabiegana-pani-domu"/>
          <p:cNvPicPr/>
          <p:nvPr/>
        </p:nvPicPr>
        <p:blipFill>
          <a:blip r:embed="rId1"/>
          <a:stretch/>
        </p:blipFill>
        <p:spPr>
          <a:xfrm>
            <a:off x="3635280" y="3141720"/>
            <a:ext cx="4667400" cy="290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03" name="Prostokąt 3" descr=""/>
          <p:cNvPicPr/>
          <p:nvPr/>
        </p:nvPicPr>
        <p:blipFill>
          <a:blip r:embed="rId2"/>
          <a:stretch/>
        </p:blipFill>
        <p:spPr>
          <a:xfrm>
            <a:off x="1755720" y="2382840"/>
            <a:ext cx="5626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68360" y="1413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B….. arbeitet 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Obraz 1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515040" cy="380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Kellner 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omic Sans MS"/>
              </a:rPr>
              <a:t>im Restaurant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Koch 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omic Sans MS"/>
              </a:rPr>
              <a:t>in der K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üch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Lehr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Schul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Polizist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auf der Straß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Arzt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Krankenhaus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Comic Sans MS"/>
              </a:rPr>
              <a:t>Die Ärztin -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ie Verkäuferin</a:t>
            </a:r>
            <a:r>
              <a:rPr b="1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Laden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äcke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Bäckere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Friseu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Haarsalo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Der Journalist –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 in der Zeit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Mechanike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Werkstatt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Arbeit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Fabrik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Die </a:t>
            </a: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Hausfrau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zu Haus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au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auf dem Land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eamte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Bür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ie Krankenschwester</a:t>
            </a:r>
            <a:r>
              <a:rPr b="0" i="1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30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Krankenhau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K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R…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5" descr="kolorowanka_kelner_0307"/>
          <p:cNvPicPr/>
          <p:nvPr/>
        </p:nvPicPr>
        <p:blipFill>
          <a:blip r:embed="rId1"/>
          <a:stretch/>
        </p:blipFill>
        <p:spPr>
          <a:xfrm>
            <a:off x="5508720" y="2509920"/>
            <a:ext cx="2413080" cy="434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K…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K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7" descr="ANd9GcSScRcIjzkCDUZYM9kJ9RYZY4rb242MQOWLQ09yhaBxn9GtcVO0"/>
          <p:cNvPicPr/>
          <p:nvPr/>
        </p:nvPicPr>
        <p:blipFill>
          <a:blip r:embed="rId1"/>
          <a:stretch/>
        </p:blipFill>
        <p:spPr>
          <a:xfrm>
            <a:off x="5651640" y="2492280"/>
            <a:ext cx="2681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L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S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7" descr="sprawy"/>
          <p:cNvPicPr/>
          <p:nvPr/>
        </p:nvPicPr>
        <p:blipFill>
          <a:blip r:embed="rId1"/>
          <a:stretch/>
        </p:blipFill>
        <p:spPr>
          <a:xfrm>
            <a:off x="5867280" y="2708280"/>
            <a:ext cx="2730600" cy="399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P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auf der S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5" descr="kolorowanki_89_s600"/>
          <p:cNvPicPr/>
          <p:nvPr/>
        </p:nvPicPr>
        <p:blipFill>
          <a:blip r:embed="rId1"/>
          <a:stretch/>
        </p:blipFill>
        <p:spPr>
          <a:xfrm>
            <a:off x="6084720" y="2205000"/>
            <a:ext cx="2567160" cy="441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7:58:39Z</dcterms:created>
  <dc:creator>Patrycja</dc:creator>
  <dc:description/>
  <dc:language>en-US</dc:language>
  <cp:lastModifiedBy>Kowalski Ryszard</cp:lastModifiedBy>
  <dcterms:modified xsi:type="dcterms:W3CDTF">2014-01-13T10:00:07Z</dcterms:modified>
  <cp:revision>10</cp:revision>
  <dc:subject/>
  <dc:title>Slajd 1</dc:title>
</cp:coreProperties>
</file>