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C8C-3320-4910-9B71-74A3C1DD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340-6C66-4BEC-909B-AB964CE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704-206B-47AA-B683-DF02520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CD2-12B3-4844-921B-4041FD8B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56C6-4A34-460F-99D7-8ADCC190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BA89-A005-4E64-A711-10C89344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5FC-2F5C-44AF-BDD4-55D13F7C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77C-780E-4A07-90C3-94E2A5EB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6749-5815-4DFE-8DD1-9C4568E7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5ACF-513E-43C9-BD17-C9B75A9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424-E48B-47DF-A06E-786304F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1D0-615A-4123-B843-4B9D419B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5208-1E78-4BE2-8E44-A7DE76E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BB76-102B-443C-A9AB-20C689CB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7A07-4356-4F11-BC31-5B1285D4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AE84-9A4F-4953-8BE4-34E1D202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7F70-D38A-4F1B-BA30-01AD90F2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A089-D169-47B8-9C76-612BA424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2A54-4EB6-4B3A-9295-C00CF1F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07F4-88F0-4A3A-B2DC-C518DA03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4BB7-830B-4701-83BD-409C403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97AF-E0CC-4EEF-8A60-18E5F695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5AF-3B5C-4B41-BCDE-FA8BEA09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AFE44-0967-4EE6-B6AE-A2FFF99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5C6A-ECCD-4538-A9AA-F573A39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5D68-1091-47A2-9711-C738F522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C0BB-E8C7-407F-8409-F59B75E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5C35-DCF7-44C9-A7C4-176162CC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F1BF-1B79-4132-B671-F4A9C518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F25E-90FC-4D61-91CF-3E40685C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7A72-1B54-4BF5-AC2D-E9E9F2B8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E8393-CFF3-4DB3-8B17-017FA722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F24D-6375-432E-8D43-3035FC92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195-14A0-4796-A56E-292CF33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FF8FD-F6B1-4322-9394-D08C70B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FB18-B56A-4048-B2BA-6B049B99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C864-1410-4F85-9F6B-2CF3D47A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9DC1-20FF-429F-B49D-02293C3C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B85C2-F807-4C4B-8DD7-A46A704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DC06-AEAE-4271-828E-27338DF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FC46-F095-4ED7-BF71-5FC86D0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D373D-0F16-4389-AB6E-1AC5BC9E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062F-6240-497C-A485-F77D4C91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DA3D-6691-49CA-9DCD-38BB3B1C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7B7-9308-4C6A-AF83-75BB28ED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81DED-614C-4302-AF32-0FE633C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23D1-E8F3-4164-97F2-722C2F6A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58544-41A1-47EB-9247-8DAC883F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CF82C-2175-4915-A3FA-C51E28A5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94BD-1B9C-46D3-BF01-16E0053D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B126-1F88-4DAA-8294-51781E2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2552-0108-4CCA-B190-3B2018A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DD7E-8B2B-4A52-943F-2149AD1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EA1B-7BC2-4D0C-81F5-BA33372F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86C85-186F-47D8-88B7-9282E6C7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224-76A0-4DD6-99F1-E5D091E5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11340-F733-49D0-AF7D-25D5370F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37B2B-090E-4816-90D2-A25B2F21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12EF-3824-4588-9C09-891F6F74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8D90-93B8-44C4-8C0E-D1944323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B73B5-44A4-44D2-A524-DF036D1F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143DF-D22A-47FB-A3C6-E619F739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5ADA3-BC14-483B-826B-D3CA1FB9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1523E-2073-4394-A5EA-A008AFE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AD36-6F22-4EE1-9E7A-0AABAC7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A2F4-503B-460B-87C7-B11BA8AF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DBC-6EFF-4870-A6B9-09B5E53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DA83A-BC7D-4E15-A404-AB0313DF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DF90D-B85E-45EA-BCFE-69104B0A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E0A68-F262-42A8-851A-1E64B66E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8862D-9859-4142-8449-0B356237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8705A-39EC-4D23-8B23-447864A0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50A5C-1F76-4206-8673-81603C85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B8BB8-5218-4F98-973B-20D00A0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3F07-BACC-435F-B077-AC7A4EA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F1529-58DF-4A41-AA64-C3B57F66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CD58-AD5A-413E-9232-6E4137F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36F-4836-4E79-81F8-1250F68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C8C9B-AD5F-4BD2-9412-5DE3D40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6953-64E8-4524-9BFD-A8487CC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0E2C-7F67-4E88-A76B-83038D39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8965-2836-4CFF-9105-7E0E72DB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99CD-3D32-4607-B392-DAF54C7F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6BC-4D35-4F98-8A03-FF0230C0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C9CE-57B4-4A43-8ED0-C4BB892253D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rójkąt równoramienny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A58-0068-4BBB-B04D-EBCDE4962D4E}" type="slidenum">
              <a:rPr b="0" lang="pl-P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C78-F01E-43FA-A35E-0D6EE1598CA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ójkąt prostokątny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rójkąt równoramienny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Łącznik prosty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Łącznik prosty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6509-8056-4DE0-8909-BB549377D3D3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DEC9-C2F9-495C-971C-5713C747BA9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1644-D384-473C-9A38-374DB2760023}" type="slidenum"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D47-F6F3-4EBD-AFD2-9B421022E24D}" type="slidenum"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6"/>
          <p:cNvSpPr txBox="1"/>
          <p:nvPr/>
        </p:nvSpPr>
        <p:spPr>
          <a:xfrm>
            <a:off x="1692360" y="1557360"/>
            <a:ext cx="5686200" cy="34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beiten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A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K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9" name="Picture 9" descr="11990092-szkic-lekarz-z-stetoskop-siedzi-przy-biurku-w-godzinach"/>
          <p:cNvPicPr/>
          <p:nvPr/>
        </p:nvPicPr>
        <p:blipFill>
          <a:blip r:embed="rId1"/>
          <a:stretch/>
        </p:blipFill>
        <p:spPr>
          <a:xfrm>
            <a:off x="5508720" y="2637000"/>
            <a:ext cx="3311280" cy="422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ieV…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L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5" descr="ANd9GcRQKNqkmpE-9vcbP36nkPv8Iz_0h-20kA9av8UoxDTMJT3zyA5MS_UCgh7R"/>
          <p:cNvPicPr/>
          <p:nvPr/>
        </p:nvPicPr>
        <p:blipFill>
          <a:blip r:embed="rId1"/>
          <a:stretch/>
        </p:blipFill>
        <p:spPr>
          <a:xfrm>
            <a:off x="5364000" y="2349360"/>
            <a:ext cx="2900520" cy="352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916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ie K………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K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5" descr="pielegniarka"/>
          <p:cNvPicPr/>
          <p:nvPr/>
        </p:nvPicPr>
        <p:blipFill>
          <a:blip r:embed="rId1"/>
          <a:stretch/>
        </p:blipFill>
        <p:spPr>
          <a:xfrm>
            <a:off x="4859280" y="2395440"/>
            <a:ext cx="2600280" cy="4462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6836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J…….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Z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Picture 6" descr="pobrane"/>
          <p:cNvPicPr/>
          <p:nvPr/>
        </p:nvPicPr>
        <p:blipFill>
          <a:blip r:embed="rId1"/>
          <a:stretch/>
        </p:blipFill>
        <p:spPr>
          <a:xfrm>
            <a:off x="6156360" y="2637000"/>
            <a:ext cx="2079720" cy="3743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F…… arbeitet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 im H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5" descr="fryzjer1"/>
          <p:cNvPicPr/>
          <p:nvPr/>
        </p:nvPicPr>
        <p:blipFill>
          <a:blip r:embed="rId1"/>
          <a:stretch/>
        </p:blipFill>
        <p:spPr>
          <a:xfrm>
            <a:off x="5435640" y="2924280"/>
            <a:ext cx="2644560" cy="358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B….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B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5" descr="8uhbw9tnby7zkl0zg45e"/>
          <p:cNvPicPr/>
          <p:nvPr/>
        </p:nvPicPr>
        <p:blipFill>
          <a:blip r:embed="rId1"/>
          <a:stretch/>
        </p:blipFill>
        <p:spPr>
          <a:xfrm>
            <a:off x="5292720" y="2637000"/>
            <a:ext cx="2720880" cy="31813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68360" y="126828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M…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 W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Picture 5" descr="kolorowanka-mechanik_999"/>
          <p:cNvPicPr/>
          <p:nvPr/>
        </p:nvPicPr>
        <p:blipFill>
          <a:blip r:embed="rId1"/>
          <a:stretch/>
        </p:blipFill>
        <p:spPr>
          <a:xfrm>
            <a:off x="5076720" y="2205000"/>
            <a:ext cx="327204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F….. arbei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B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Obraz 1" descr=""/>
          <p:cNvPicPr/>
          <p:nvPr/>
        </p:nvPicPr>
        <p:blipFill>
          <a:blip r:embed="rId1"/>
          <a:stretch/>
        </p:blipFill>
        <p:spPr>
          <a:xfrm>
            <a:off x="3995640" y="2708280"/>
            <a:ext cx="4343400" cy="31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A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F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Picture 5" descr="1339944441_401481232_1-Zdjecia--PRACOWNIK"/>
          <p:cNvPicPr/>
          <p:nvPr/>
        </p:nvPicPr>
        <p:blipFill>
          <a:blip r:embed="rId1"/>
          <a:stretch/>
        </p:blipFill>
        <p:spPr>
          <a:xfrm>
            <a:off x="5724360" y="2852640"/>
            <a:ext cx="2471760" cy="3889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ie H……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zu H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5" descr="Zabiegana-pani-domu"/>
          <p:cNvPicPr/>
          <p:nvPr/>
        </p:nvPicPr>
        <p:blipFill>
          <a:blip r:embed="rId1"/>
          <a:stretch/>
        </p:blipFill>
        <p:spPr>
          <a:xfrm>
            <a:off x="3635280" y="3141720"/>
            <a:ext cx="4667400" cy="290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03" name="Prostokąt 3" descr=""/>
          <p:cNvPicPr/>
          <p:nvPr/>
        </p:nvPicPr>
        <p:blipFill>
          <a:blip r:embed="rId2"/>
          <a:stretch/>
        </p:blipFill>
        <p:spPr>
          <a:xfrm>
            <a:off x="1755720" y="2382840"/>
            <a:ext cx="5626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68360" y="1413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B….. arbeitet 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B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Obraz 1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515040" cy="3809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Kellner </a:t>
            </a:r>
            <a:r>
              <a:rPr b="1" i="1" lang="pl-PL" sz="30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omic Sans MS"/>
              </a:rPr>
              <a:t>im Restaurant</a:t>
            </a:r>
            <a:r>
              <a:rPr b="1" i="1" lang="pl-PL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Koch </a:t>
            </a:r>
            <a:r>
              <a:rPr b="1" i="1" lang="pl-PL" sz="30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omic Sans MS"/>
              </a:rPr>
              <a:t>in der K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üche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Lehrer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Schule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Polizist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auf der Straß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Arzt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Krankenhaus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Comic Sans MS"/>
              </a:rPr>
              <a:t>Die Ärztin -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ie Verkäuferin</a:t>
            </a:r>
            <a:r>
              <a:rPr b="1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Laden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Bäcker</a:t>
            </a:r>
            <a:r>
              <a:rPr b="0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Bäckere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Friseur</a:t>
            </a:r>
            <a:r>
              <a:rPr b="0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Haarsalo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Der Journalist –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 in der Zeit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Mechaniker</a:t>
            </a:r>
            <a:r>
              <a:rPr b="0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Werkstatt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Arbeiter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n der Fabrik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Die </a:t>
            </a: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Hausfrau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zu Hause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Bauer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auf dem Land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er Beamte </a:t>
            </a:r>
            <a:r>
              <a:rPr b="1" i="1" lang="pl-PL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Bür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ffffff"/>
                </a:solidFill>
                <a:latin typeface="Arial Narrow"/>
              </a:rPr>
              <a:t>Die Krankenschwester</a:t>
            </a:r>
            <a:r>
              <a:rPr b="0" i="1" lang="pl-PL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pl-PL" sz="30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1" i="1" lang="pl-PL" sz="3000" spc="-1" strike="noStrike" u="sng">
                <a:solidFill>
                  <a:srgbClr val="ffffff"/>
                </a:solidFill>
                <a:uFillTx/>
                <a:latin typeface="Century Gothic"/>
              </a:rPr>
              <a:t>im Krankenhau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K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m R…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5" descr="kolorowanka_kelner_0307"/>
          <p:cNvPicPr/>
          <p:nvPr/>
        </p:nvPicPr>
        <p:blipFill>
          <a:blip r:embed="rId1"/>
          <a:stretch/>
        </p:blipFill>
        <p:spPr>
          <a:xfrm>
            <a:off x="5508720" y="2509920"/>
            <a:ext cx="2413080" cy="434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K…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K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7" descr="ANd9GcSScRcIjzkCDUZYM9kJ9RYZY4rb242MQOWLQ09yhaBxn9GtcVO0"/>
          <p:cNvPicPr/>
          <p:nvPr/>
        </p:nvPicPr>
        <p:blipFill>
          <a:blip r:embed="rId1"/>
          <a:stretch/>
        </p:blipFill>
        <p:spPr>
          <a:xfrm>
            <a:off x="5651640" y="2492280"/>
            <a:ext cx="26812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L…..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in der S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7" descr="sprawy"/>
          <p:cNvPicPr/>
          <p:nvPr/>
        </p:nvPicPr>
        <p:blipFill>
          <a:blip r:embed="rId1"/>
          <a:stretch/>
        </p:blipFill>
        <p:spPr>
          <a:xfrm>
            <a:off x="5867280" y="2708280"/>
            <a:ext cx="2730600" cy="399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Der P…… arbeitet </a:t>
            </a:r>
            <a:r>
              <a:rPr b="1" lang="pl-PL" sz="3000" spc="-1" strike="noStrike">
                <a:solidFill>
                  <a:srgbClr val="ffffff"/>
                </a:solidFill>
                <a:latin typeface="Century Gothic"/>
              </a:rPr>
              <a:t>auf der S</a:t>
            </a:r>
            <a:r>
              <a:rPr b="0" lang="pl-PL" sz="3000" spc="-1" strike="noStrike">
                <a:solidFill>
                  <a:srgbClr val="ffffff"/>
                </a:solidFill>
                <a:latin typeface="Century Gothic"/>
              </a:rPr>
              <a:t>….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5" descr="kolorowanki_89_s600"/>
          <p:cNvPicPr/>
          <p:nvPr/>
        </p:nvPicPr>
        <p:blipFill>
          <a:blip r:embed="rId1"/>
          <a:stretch/>
        </p:blipFill>
        <p:spPr>
          <a:xfrm>
            <a:off x="6084720" y="2205000"/>
            <a:ext cx="2567160" cy="441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7:58:39Z</dcterms:created>
  <dc:creator>Patrycja</dc:creator>
  <dc:description/>
  <dc:language>en-US</dc:language>
  <cp:lastModifiedBy>Kowalski Ryszard</cp:lastModifiedBy>
  <dcterms:modified xsi:type="dcterms:W3CDTF">2014-01-13T10:00:07Z</dcterms:modified>
  <cp:revision>10</cp:revision>
  <dc:subject/>
  <dc:title>Slajd 1</dc:title>
</cp:coreProperties>
</file>